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046CC-27E0-486A-B194-8CD3B5992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FD3B-2FCB-4E1E-A462-5ADEAD156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8602E-70DD-492B-BA5E-999127BC0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A0099-5DC2-4385-92EC-4CBD445B5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3DDB1-AA4A-4C0A-B0BF-4D06479AF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B6B25-2B1A-4242-9C9D-043F64335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6B05A-6E8C-4756-9615-FE2EEC0DB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8F04F-606C-4373-B78E-0A5C2BC29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11CFB-BDFF-4006-8D3F-4726E71CA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02921-824F-4E82-B6E2-B2863D2E2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640E-74FA-4CCD-AAAA-6CF57FFB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32748-DCCE-4BBA-9D3C-28D2029F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024B-2E47-40F5-BD3F-9FEED95BD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B8AAC-8758-487D-BB60-EB67BF38E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11C463-13A5-4CAD-A9F9-3516FCB4B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65DCF-09C1-48E5-824A-BE612240F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6423A-9E54-4919-A576-2CA2BE8C7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DF991B-6F1E-44E4-9449-97EB399454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AFE13-733A-4BE8-8B79-357C432CD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8EA1A-C56E-42E2-9EF0-94BC01559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EA395-B8E8-48FC-97EA-5A02F21F5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5D29E4-105F-47D7-984B-D66BA909E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D898B-BA1B-4D4E-92B3-1539D64F8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A5935-3237-405D-A6CC-07EB6FC90B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BF243-5C70-40F5-A398-E95F4AAFC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AD9CA-1BFA-435F-A799-1A196E3CE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C62E6-90E5-49F0-8597-472DC0A67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88E9EC-5D65-46CA-98C4-72AE44AE9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23222-01CD-4397-B676-D5931AC556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3E2A3-FB02-4F0F-B5BB-2F319F376F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B5DF83-FDD9-49A6-B44E-3FE4120DC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73D4C3-C07E-46F9-B5B1-26701D10D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FFD2C3-1852-472A-8824-60998B6BE1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0FDD1-3A21-4D40-A7CE-C9A74B20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4CB61-3C4E-4B0F-BEAB-E37D9981C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52717-B7A5-4A31-800C-EE5046CE6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7E599-CA9C-40F1-AD23-39EBD8E73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624AF-25A1-49FB-ACF3-555A6E1B7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A21C1-8CAA-409A-9BAC-B7FACB9BD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EB2C0C-304F-405E-9444-1917FD0E41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EAFF7-2F6E-44F7-8ADA-A64EECF42F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2A01C4-FB76-495F-80FE-7151DC52E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135CA5-EE7B-47D3-B4E7-FA95A838D9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C8E66E-863A-4445-B2A0-F3CFED47E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8496-491B-4619-87F5-70CFC3FA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7975A4-969C-416D-B200-DE19BBF23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5FB658-CB4E-4920-ABBA-0BFE2FF1F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A55C40-D102-4001-A293-C9EEF270D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B2137-CDC5-4C5A-8E2B-86D7B3F8F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D88F6-2CE5-4C43-8FB6-C315672E8D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FEA47-EA88-4E2F-9E11-B6B49DDB16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3B0A9-4C53-4599-BA16-ECDA4B684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40FA5C-F664-4DC1-9089-ADE293631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B3878-6C27-4C63-A763-3BE7F834D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B3EA1D-CF2E-4694-9874-4409CEE1EE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546A5-4B25-4940-BCF9-7B3BBE628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5E01E4-80A1-4050-9498-04B3D27CFC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F00C13-2449-4479-938B-0B5E70C551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F66641-6222-4832-8CA0-A69682785C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CDB95-B0CB-40B7-B590-82C05A06C3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13B163-4439-40C5-AD2C-E861E345AE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B1DF6F-43C6-4C3D-9CCB-CC603DDAB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E84A58-3A96-4806-AFD8-C566271275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EEF57-9A0B-45A4-B8FD-43AD6AEF1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896DB8-68A2-41D3-B7CC-A4ADAA11C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D9C8B6-643A-40E2-802F-EFE515CE3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E0F07-18B1-427F-AD0F-07F8DACE8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FB331A-9299-4D34-B6F3-3E8444B53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BF3AE3-0DA3-4CCE-9832-8A18A3C738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EFB44E-D844-4EF1-8FCD-114B20B80E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4C15BA-043C-469E-883E-37CC7A7B6A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A68FE-56BA-4F86-95D2-5C2CE0305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09BC9C-EA76-4407-BF1C-3EB2004B4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AEBDB7-5EFA-4B4D-A44D-7ADCE60681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D3E549-255D-41F0-B908-E8278A6AA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5FE955-E109-42BB-86F6-EB0CAA843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FE2A1-C2CE-4ECF-9D73-5A281AC19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30AF1-589D-482C-8248-38CE41A9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4EFD31-C9EB-4575-83EC-44435DD03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F86FB-73DE-4467-9FEB-6B3156CD15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65C0B9-D77A-4B7A-A08B-C8C238A32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91E249-B578-4E1F-9DC5-D7776E6AAB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E5698C-6FEA-42EF-8803-6B4F2E8070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CF09-8A5F-4B91-9D7B-ADFFB4292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BC71-548C-40B6-9E51-AE6DDCACF22B}"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0D54-9A6B-468C-BB0A-437D9E5F1720}" type="slidenum">
              <a:rPr b="0" lang="en-CA"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8D78-B56D-43F4-9E59-90BA9FD285FB}"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AD2E2-4F83-4796-AC1E-7D1B97F09275}" type="slidenum">
              <a:rPr b="0" lang="en-CA"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D788-61CA-42C2-A6F1-C324E9BDCAA0}"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A2E0-22B8-45A1-B373-B2FECE787876}" type="slidenum">
              <a:rPr b="0" lang="en-CA"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FC2B-A7A2-4FE2-A797-AB00EDD18113}" type="slidenum">
              <a:rPr b="0" lang="en-CA"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www.runnersworld.com/tag/achilles-tendinitis" TargetMode="External"/><Relationship Id="rId2" Type="http://schemas.openxmlformats.org/officeDocument/2006/relationships/hyperlink" Target="http://www.livestrong.com/article/548392-what-muscles-does-dancing-ballet-strengthen/"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768240"/>
            <a:ext cx="8467920" cy="1481400"/>
          </a:xfrm>
          <a:prstGeom prst="rect">
            <a:avLst/>
          </a:prstGeom>
          <a:ln w="0">
            <a:noFill/>
          </a:ln>
        </p:spPr>
      </p:pic>
      <p:pic>
        <p:nvPicPr>
          <p:cNvPr id="302" name="Subtitle 2" descr=""/>
          <p:cNvPicPr/>
          <p:nvPr/>
        </p:nvPicPr>
        <p:blipFill>
          <a:blip r:embed="rId2"/>
          <a:stretch/>
        </p:blipFill>
        <p:spPr>
          <a:xfrm>
            <a:off x="536400" y="2170080"/>
            <a:ext cx="8174160" cy="1841400"/>
          </a:xfrm>
          <a:prstGeom prst="rect">
            <a:avLst/>
          </a:prstGeom>
          <a:ln w="0">
            <a:noFill/>
          </a:ln>
        </p:spPr>
      </p:pic>
      <p:pic>
        <p:nvPicPr>
          <p:cNvPr id="303" name="Picture 7" descr="https://scontent-a-ord.xx.fbcdn.net/hphotos-xaf1/v/l/t1.0-9/1922298_10202964545850944_672146453_n.jpg?oh=d48c3468699cf3b721da707724a320e5&amp;oe=54AF567F"/>
          <p:cNvPicPr/>
          <p:nvPr/>
        </p:nvPicPr>
        <p:blipFill>
          <a:blip r:embed="rId3"/>
          <a:stretch/>
        </p:blipFill>
        <p:spPr>
          <a:xfrm>
            <a:off x="684360" y="3068640"/>
            <a:ext cx="3127320" cy="319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165240" y="268200"/>
            <a:ext cx="7461000" cy="1371600"/>
          </a:xfrm>
          <a:prstGeom prst="rect">
            <a:avLst/>
          </a:prstGeom>
          <a:ln w="0">
            <a:noFill/>
          </a:ln>
        </p:spPr>
      </p:pic>
      <p:sp>
        <p:nvSpPr>
          <p:cNvPr id="305" name="PlaceHolder 1"/>
          <p:cNvSpPr>
            <a:spLocks noGrp="1"/>
          </p:cNvSpPr>
          <p:nvPr>
            <p:ph/>
          </p:nvPr>
        </p:nvSpPr>
        <p:spPr>
          <a:xfrm>
            <a:off x="380520" y="1633320"/>
            <a:ext cx="3886200" cy="496404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Dance at a competitive level is an activity that involves a lot of flexibility, intensity and ground pounding movements.  In order to have proper technique it becomes very physically demanding. </a:t>
            </a:r>
            <a:endParaRPr b="0" lang="en-US" sz="2000" spc="-1" strike="noStrike">
              <a:solidFill>
                <a:srgbClr val="ffffff"/>
              </a:solidFill>
              <a:latin typeface="Century Gothic"/>
            </a:endParaRPr>
          </a:p>
        </p:txBody>
      </p:sp>
      <p:sp>
        <p:nvSpPr>
          <p:cNvPr id="30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8" name="Picture 17" descr="https://fbcdn-sphotos-e-a.akamaihd.net/hphotos-ak-xaf1/v/t1.0-9/1012579_10203254804827237_5833196342478069725_n.jpg?oh=da589b7fe472db474026841d1f5a6418&amp;oe=54D1360A&amp;__gda__=1421281981_cce4eb467f7e598f6823cc132d89a88d"/>
          <p:cNvPicPr/>
          <p:nvPr/>
        </p:nvPicPr>
        <p:blipFill>
          <a:blip r:embed="rId2"/>
          <a:stretch/>
        </p:blipFill>
        <p:spPr>
          <a:xfrm>
            <a:off x="5508720" y="2421000"/>
            <a:ext cx="3319200" cy="2217600"/>
          </a:xfrm>
          <a:prstGeom prst="rect">
            <a:avLst/>
          </a:prstGeom>
          <a:ln w="0">
            <a:noFill/>
          </a:ln>
        </p:spPr>
      </p:pic>
      <p:pic>
        <p:nvPicPr>
          <p:cNvPr id="309" name="Picture 19" descr="https://fbcdn-sphotos-e-a.akamaihd.net/hphotos-ak-xpf1/v/t1.0-9/10002924_10202964553931146_858157441_n.jpg?oh=d684025caa4fd0f9bb946bb7f84fd313&amp;oe=54BA0464&amp;__gda__=1417916089_8273cb55c8bdca44566efcd78ff4bcc2"/>
          <p:cNvPicPr/>
          <p:nvPr/>
        </p:nvPicPr>
        <p:blipFill>
          <a:blip r:embed="rId3"/>
          <a:stretch/>
        </p:blipFill>
        <p:spPr>
          <a:xfrm>
            <a:off x="2987640" y="3933720"/>
            <a:ext cx="3600360" cy="27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ff5c9c"/>
              </a:solidFill>
              <a:latin typeface="Century Gothic"/>
            </a:endParaRPr>
          </a:p>
        </p:txBody>
      </p:sp>
      <p:sp>
        <p:nvSpPr>
          <p:cNvPr id="311" name="PlaceHolder 2"/>
          <p:cNvSpPr>
            <a:spLocks noGrp="1"/>
          </p:cNvSpPr>
          <p:nvPr>
            <p:ph/>
          </p:nvPr>
        </p:nvSpPr>
        <p:spPr>
          <a:xfrm>
            <a:off x="380520" y="1633680"/>
            <a:ext cx="3886200" cy="2286000"/>
          </a:xfrm>
          <a:prstGeom prst="rect">
            <a:avLst/>
          </a:prstGeom>
          <a:noFill/>
          <a:ln w="0">
            <a:noFill/>
          </a:ln>
        </p:spPr>
        <p:txBody>
          <a:bodyPr anchor="t">
            <a:normAutofit fontScale="89000"/>
          </a:bodyPr>
          <a:p>
            <a:pPr marL="47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Dance puts a lot of stress on many parts of your body and involves every muscle group possible at some point in time, especially your lower body and feet.  The best way to prevent those injuries is to stretch and strengthen these muscles.</a:t>
            </a:r>
            <a:endParaRPr b="0" lang="en-US" sz="2000" spc="-1" strike="noStrike">
              <a:solidFill>
                <a:srgbClr val="ffffff"/>
              </a:solidFill>
              <a:latin typeface="Century Gothic"/>
            </a:endParaRPr>
          </a:p>
        </p:txBody>
      </p:sp>
      <p:pic>
        <p:nvPicPr>
          <p:cNvPr id="312" name="Picture 2" descr="https://scontent-a-ord.xx.fbcdn.net/hphotos-xap1/v/t1.0-9/1962666_10203023934975635_2077264907_n.jpg?oh=b14be756ce7bf6906ef52cfe0531a96a&amp;oe=54BCAB48"/>
          <p:cNvPicPr/>
          <p:nvPr/>
        </p:nvPicPr>
        <p:blipFill>
          <a:blip r:embed="rId1"/>
          <a:stretch/>
        </p:blipFill>
        <p:spPr>
          <a:xfrm>
            <a:off x="4932360" y="333360"/>
            <a:ext cx="3728880" cy="2808360"/>
          </a:xfrm>
          <a:prstGeom prst="rect">
            <a:avLst/>
          </a:prstGeom>
          <a:ln w="0">
            <a:noFill/>
          </a:ln>
        </p:spPr>
      </p:pic>
      <p:pic>
        <p:nvPicPr>
          <p:cNvPr id="313" name="Picture 4" descr="https://fbcdn-sphotos-b-a.akamaihd.net/hphotos-ak-xfp1/v/t1.0-9/1975122_10202964543930896_329230209_n.jpg?oh=ac837f44373abb558244eb0a1d2774df&amp;oe=54C9CD13&amp;__gda__=1421518409_757c8f89f7f48892aeb0f4557c451680"/>
          <p:cNvPicPr/>
          <p:nvPr/>
        </p:nvPicPr>
        <p:blipFill>
          <a:blip r:embed="rId2"/>
          <a:stretch/>
        </p:blipFill>
        <p:spPr>
          <a:xfrm>
            <a:off x="5076720" y="3645000"/>
            <a:ext cx="3451320" cy="28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65240" y="268200"/>
            <a:ext cx="7461000" cy="1371600"/>
          </a:xfrm>
          <a:prstGeom prst="rect">
            <a:avLst/>
          </a:prstGeom>
          <a:ln w="0">
            <a:noFill/>
          </a:ln>
        </p:spPr>
      </p:pic>
      <p:sp>
        <p:nvSpPr>
          <p:cNvPr id="315" name="PlaceHolder 1"/>
          <p:cNvSpPr>
            <a:spLocks noGrp="1"/>
          </p:cNvSpPr>
          <p:nvPr>
            <p:ph/>
          </p:nvPr>
        </p:nvSpPr>
        <p:spPr>
          <a:xfrm>
            <a:off x="380880" y="1633320"/>
            <a:ext cx="3183120" cy="474804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Injuries in the foot and ankle are very common. The Gastrocnemius and soleus muscles are so important in dance and are activated in all basic movements.  Together the two muscles form the gastroc-soleus muscle group.</a:t>
            </a:r>
            <a:endParaRPr b="0" lang="en-US" sz="2000" spc="-1" strike="noStrike">
              <a:solidFill>
                <a:srgbClr val="ffffff"/>
              </a:solidFill>
              <a:latin typeface="Century Gothic"/>
            </a:endParaRPr>
          </a:p>
        </p:txBody>
      </p:sp>
      <p:pic>
        <p:nvPicPr>
          <p:cNvPr id="316" name="Picture 6" descr="calf-workout-routine-calf-anatomy.jpg"/>
          <p:cNvPicPr/>
          <p:nvPr/>
        </p:nvPicPr>
        <p:blipFill>
          <a:blip r:embed="rId2"/>
          <a:stretch/>
        </p:blipFill>
        <p:spPr>
          <a:xfrm>
            <a:off x="3780000" y="2060640"/>
            <a:ext cx="4968720" cy="32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65240" y="268200"/>
            <a:ext cx="7461000" cy="1371600"/>
          </a:xfrm>
          <a:prstGeom prst="rect">
            <a:avLst/>
          </a:prstGeom>
          <a:ln w="0">
            <a:noFill/>
          </a:ln>
        </p:spPr>
      </p:pic>
      <p:sp>
        <p:nvSpPr>
          <p:cNvPr id="318" name="PlaceHolder 1"/>
          <p:cNvSpPr>
            <a:spLocks noGrp="1"/>
          </p:cNvSpPr>
          <p:nvPr>
            <p:ph/>
          </p:nvPr>
        </p:nvSpPr>
        <p:spPr>
          <a:xfrm>
            <a:off x="380520" y="1633680"/>
            <a:ext cx="3886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Every time a dancer points their foot or rises up unto their toes(plantar flexion), and jumps they are being acted upon. </a:t>
            </a:r>
            <a:endParaRPr b="0" lang="en-US" sz="2000" spc="-1" strike="noStrike">
              <a:solidFill>
                <a:srgbClr val="ffffff"/>
              </a:solidFill>
              <a:latin typeface="Century Gothic"/>
            </a:endParaRPr>
          </a:p>
        </p:txBody>
      </p:sp>
      <p:pic>
        <p:nvPicPr>
          <p:cNvPr id="319" name="Picture 5" descr="http://balletclassroom.files.wordpress.com/2012/03/ballet-releve.jpg"/>
          <p:cNvPicPr/>
          <p:nvPr/>
        </p:nvPicPr>
        <p:blipFill>
          <a:blip r:embed="rId2"/>
          <a:stretch/>
        </p:blipFill>
        <p:spPr>
          <a:xfrm>
            <a:off x="250920" y="4653000"/>
            <a:ext cx="2857320" cy="1857240"/>
          </a:xfrm>
          <a:prstGeom prst="rect">
            <a:avLst/>
          </a:prstGeom>
          <a:ln w="0">
            <a:noFill/>
          </a:ln>
        </p:spPr>
      </p:pic>
      <p:pic>
        <p:nvPicPr>
          <p:cNvPr id="320" name="Picture 7" descr="http://media.merchantcircle.com/10621443/Pointed%20Foot_medium.jpeg"/>
          <p:cNvPicPr/>
          <p:nvPr/>
        </p:nvPicPr>
        <p:blipFill>
          <a:blip r:embed="rId3"/>
          <a:stretch/>
        </p:blipFill>
        <p:spPr>
          <a:xfrm>
            <a:off x="5724360" y="1773360"/>
            <a:ext cx="3048120" cy="2009520"/>
          </a:xfrm>
          <a:prstGeom prst="rect">
            <a:avLst/>
          </a:prstGeom>
          <a:ln w="0">
            <a:noFill/>
          </a:ln>
        </p:spPr>
      </p:pic>
      <p:pic>
        <p:nvPicPr>
          <p:cNvPr id="321" name="Picture 13" descr="https://fbcdn-sphotos-g-a.akamaihd.net/hphotos-ak-xpa1/v/t1.0-9/10153061_10203254470018867_1115747723123872350_n.jpg?oh=25da07da3a1effcccbdc882ee7c0e1f8&amp;oe=54B76D8F&amp;__gda__=1422518681_1016755d83eb2760ec876f650fbf009c"/>
          <p:cNvPicPr/>
          <p:nvPr/>
        </p:nvPicPr>
        <p:blipFill>
          <a:blip r:embed="rId4"/>
          <a:stretch/>
        </p:blipFill>
        <p:spPr>
          <a:xfrm>
            <a:off x="2916360" y="3357720"/>
            <a:ext cx="3625560" cy="242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65240" y="268200"/>
            <a:ext cx="7461000" cy="1371600"/>
          </a:xfrm>
          <a:prstGeom prst="rect">
            <a:avLst/>
          </a:prstGeom>
          <a:ln w="0">
            <a:noFill/>
          </a:ln>
        </p:spPr>
      </p:pic>
      <p:sp>
        <p:nvSpPr>
          <p:cNvPr id="323" name="PlaceHolder 1"/>
          <p:cNvSpPr>
            <a:spLocks noGrp="1"/>
          </p:cNvSpPr>
          <p:nvPr>
            <p:ph/>
          </p:nvPr>
        </p:nvSpPr>
        <p:spPr>
          <a:xfrm>
            <a:off x="380520" y="1633680"/>
            <a:ext cx="3830760" cy="3595680"/>
          </a:xfrm>
          <a:prstGeom prst="rect">
            <a:avLst/>
          </a:prstGeom>
          <a:noFill/>
          <a:ln w="0">
            <a:noFill/>
          </a:ln>
        </p:spPr>
        <p:txBody>
          <a:bodyPr anchor="t">
            <a:normAutofit fontScale="97000"/>
          </a:bodyPr>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entury Gothic"/>
              </a:rPr>
              <a:t>Stairs stretch:</a:t>
            </a: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Stand with your toes on the edge of a stair. Shift your body weight over your heels then drop your heels down as far as possible, stretching out your achilles tendon. </a:t>
            </a: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Hold for 15 - 20 seconds, repeat 4 times.</a:t>
            </a:r>
            <a:endParaRPr b="0" lang="en-US" sz="2000" spc="-1" strike="noStrike">
              <a:solidFill>
                <a:srgbClr val="ffffff"/>
              </a:solidFill>
              <a:latin typeface="Century Gothic"/>
            </a:endParaRPr>
          </a:p>
        </p:txBody>
      </p:sp>
      <p:pic>
        <p:nvPicPr>
          <p:cNvPr id="324" name="Picture 2" descr="Stand with your toes on the edge of a stair. Shift your body weight over your heels then drop your heels down as far as possible, stretching out your achilles tendon. Hold for 15 - 20 seconds, repeat 4 times. "/>
          <p:cNvPicPr/>
          <p:nvPr/>
        </p:nvPicPr>
        <p:blipFill>
          <a:blip r:embed="rId2"/>
          <a:stretch/>
        </p:blipFill>
        <p:spPr>
          <a:xfrm>
            <a:off x="4788000" y="2133720"/>
            <a:ext cx="3973320" cy="324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165240" y="268200"/>
            <a:ext cx="7461000" cy="1371600"/>
          </a:xfrm>
          <a:prstGeom prst="rect">
            <a:avLst/>
          </a:prstGeom>
          <a:ln w="0">
            <a:noFill/>
          </a:ln>
        </p:spPr>
      </p:pic>
      <p:sp>
        <p:nvSpPr>
          <p:cNvPr id="326" name="PlaceHolder 1"/>
          <p:cNvSpPr>
            <a:spLocks noGrp="1"/>
          </p:cNvSpPr>
          <p:nvPr>
            <p:ph/>
          </p:nvPr>
        </p:nvSpPr>
        <p:spPr>
          <a:xfrm>
            <a:off x="380520" y="1633320"/>
            <a:ext cx="7286760" cy="172404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entury Gothic"/>
              </a:rPr>
              <a:t>Downward Dog</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Leaning into your hands while trying to push your feet on the floor gives you a great calf stretch.  </a:t>
            </a:r>
            <a:endParaRPr b="0" lang="en-US" sz="2000" spc="-1" strike="noStrike">
              <a:solidFill>
                <a:srgbClr val="ffffff"/>
              </a:solidFill>
              <a:latin typeface="Century Gothic"/>
            </a:endParaRPr>
          </a:p>
        </p:txBody>
      </p:sp>
      <p:pic>
        <p:nvPicPr>
          <p:cNvPr id="327" name="Picture 2" descr="http://blog.codyapp.com/wp-content/uploads/2014/03/downward-dog-technique1.jpg"/>
          <p:cNvPicPr/>
          <p:nvPr/>
        </p:nvPicPr>
        <p:blipFill>
          <a:blip r:embed="rId2"/>
          <a:stretch/>
        </p:blipFill>
        <p:spPr>
          <a:xfrm>
            <a:off x="1476360" y="3213000"/>
            <a:ext cx="5832360" cy="323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71440"/>
            <a:ext cx="7239240" cy="136224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600" spc="-1" strike="noStrike">
              <a:solidFill>
                <a:srgbClr val="ff5c9c"/>
              </a:solidFill>
              <a:latin typeface="Century Gothic"/>
            </a:endParaRPr>
          </a:p>
        </p:txBody>
      </p:sp>
      <p:sp>
        <p:nvSpPr>
          <p:cNvPr id="329" name="PlaceHolder 2"/>
          <p:cNvSpPr>
            <a:spLocks noGrp="1"/>
          </p:cNvSpPr>
          <p:nvPr>
            <p:ph/>
          </p:nvPr>
        </p:nvSpPr>
        <p:spPr>
          <a:xfrm>
            <a:off x="380520" y="1633680"/>
            <a:ext cx="3886200" cy="2286000"/>
          </a:xfrm>
          <a:prstGeom prst="rect">
            <a:avLst/>
          </a:prstGeom>
          <a:noFill/>
          <a:ln w="0">
            <a:noFill/>
          </a:ln>
        </p:spPr>
        <p:txBody>
          <a:bodyPr anchor="t">
            <a:normAutofit/>
          </a:bodyPr>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entury Gothic"/>
              </a:rPr>
              <a:t>Dancer specific:</a:t>
            </a:r>
            <a:endParaRPr b="0" lang="en-US" sz="2000" spc="-1" strike="noStrike">
              <a:solidFill>
                <a:srgbClr val="ffffff"/>
              </a:solidFill>
              <a:latin typeface="Century Gothic"/>
            </a:endParaRPr>
          </a:p>
          <a:p>
            <a:pPr marL="54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entury Gothic"/>
              </a:rPr>
              <a:t> </a:t>
            </a:r>
            <a:r>
              <a:rPr b="0" lang="en-CA" sz="2000" spc="-1" strike="noStrike">
                <a:solidFill>
                  <a:srgbClr val="ffffff"/>
                </a:solidFill>
                <a:latin typeface="Century Gothic"/>
              </a:rPr>
              <a:t>Dancers tend to increase the stretch by turning it into  what's called the “needle”, and working on your flexibility at the same time.</a:t>
            </a:r>
            <a:endParaRPr b="0" lang="en-US" sz="2000" spc="-1" strike="noStrike">
              <a:solidFill>
                <a:srgbClr val="ffffff"/>
              </a:solidFill>
              <a:latin typeface="Century Gothic"/>
            </a:endParaRPr>
          </a:p>
        </p:txBody>
      </p:sp>
      <p:pic>
        <p:nvPicPr>
          <p:cNvPr id="330" name="Picture 2" descr="http://www.infinitydancetulsa.com/wordpress/wp-content/gallery/2-infinity-dance-academy-2014/needle-releve-dance-shot-infinity-tulsa.jpg"/>
          <p:cNvPicPr/>
          <p:nvPr/>
        </p:nvPicPr>
        <p:blipFill>
          <a:blip r:embed="rId1"/>
          <a:stretch/>
        </p:blipFill>
        <p:spPr>
          <a:xfrm>
            <a:off x="5148360" y="1557360"/>
            <a:ext cx="3233520" cy="484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200" spc="-1" strike="noStrike">
              <a:solidFill>
                <a:srgbClr val="ff5c9c"/>
              </a:solidFill>
              <a:latin typeface="Century Gothic"/>
            </a:endParaRPr>
          </a:p>
        </p:txBody>
      </p:sp>
      <p:sp>
        <p:nvSpPr>
          <p:cNvPr id="332"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Century Gothic"/>
                <a:hlinkClick r:id="rId1"/>
              </a:rPr>
              <a:t>http://www.runnersworld.com/tag/achilles-tendiniti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Century Gothic"/>
                <a:hlinkClick r:id="rId2"/>
              </a:rPr>
              <a:t>http://www.livestrong.com/article/548392-what-muscles-does-dancing-ballet-strengthe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30T23:45:28Z</dcterms:created>
  <dc:creator>e17236</dc:creator>
  <dc:description/>
  <dc:language>en-US</dc:language>
  <cp:lastModifiedBy>ICT</cp:lastModifiedBy>
  <dcterms:modified xsi:type="dcterms:W3CDTF">2014-10-08T15:33:46Z</dcterms:modified>
  <cp:revision>36</cp:revision>
  <dc:subject/>
  <dc:title>Dance </dc:title>
</cp:coreProperties>
</file>